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520-37B6-4271-98C4-C4762B1F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4DF-B0B9-4162-A6FA-69C6037E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C6B-F484-4774-8090-C6AB45BF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45D-7386-40B8-A413-46B51BD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F43-F58C-4EBB-8F6F-110A9B0B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BBE-1C8A-41F7-B035-24608BA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2D7-3A41-4802-8195-C6896C4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FC4-60F0-4CF2-A0B4-12CA7F5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1E8-D97B-4F14-95EC-2B7DA30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A13-7E2C-4789-8E09-9C87172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1C1-226F-4C1C-9F87-4A84290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C65-A24D-42CE-BE8D-A398086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E5AFB2D4-2B0F-458C-8686-125581D59749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4 Updat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blic Outreach in 2007/20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ristine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ublic Outreach Officer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ogo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have the correct logo for you? If not, please send it to kyun@jive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D35-290A-4679-9210-4FCCD05589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stine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Outreach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308-AD52-4ABE-8492-EE758BD8E4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ublic Outreach in 2007/2008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ch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Correlation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B7F-FB6E-4DA0-9837-F46BF58217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s Releases – www.expres-eu.org/news.htm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ugust 2007 - First 512 Mbps e-EVN image from six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August 2007 - Huib Jan van Langevelde named new director of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August 2007 - First e-VLBI data from China-Australia, China-Europe and Australia-Europe baseline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Release picked up by multiple sources. Site traffic spiked from ~75 visits/week to 548 visits the week of the release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September 2007 - e-VLBI detection of SN2007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October 2007 - Global collaboration helps astronomers get more complete view of the universe (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2 press re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805-4222-4079-BDA9-188013B3A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rochur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-fold brochure printed in March 2007 and distributed to all EXPRe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opies still available for conferences, open days, visitor's cent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4953240" cy="23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449568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B08-3B2C-40DF-9798-13B10526E0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st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in January 2008 and distributed to astronomy institutes and universities throughout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6324840" cy="44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550-C4D1-4B12-A021-BD6E121436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eal-time correlation map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gle Map updated in real-time showing stations currently correlating at JIVE (both regular VLBI and e-VL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expres-eu.org/maps/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68360"/>
            <a:ext cx="5334120" cy="41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C7F-5277-499E-A4DA-2FA7CDF686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pla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x2 meter display is available for use at meetings, conferences, open day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to EXPReS partners. Shipping costs to be covered by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810480" cy="44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991-4B6D-4B6B-A906-60D7EDE8D1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erchandi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2008: each partner will receive five polo shirts and five t-shirts to distribute to EXPReS staff and key part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01880" cy="364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657600" cy="36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B84-44D3-471A-9415-0D41734237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dditional Material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tems available in the NA4 section of th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erplate descriptions of EX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s and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preparation of EXPReS related talks and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4 Update: Public Outreach in 2007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254-B112-4272-B9C6-B3F12D8D1B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Jan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8-01-28T13:50:46Z</dcterms:modified>
  <cp:revision>30</cp:revision>
  <dc:subject/>
  <dc:title>Slide 1</dc:title>
</cp:coreProperties>
</file>